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1BB-7DEC-401F-B595-7EF327FC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163-5A94-4BDA-93B2-E61EB03D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589-55BF-47A8-8ADD-DD215030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B3F-2262-4E76-81EE-9A45F5C5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992-1E70-4DA2-B6E7-FC4FC78A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00D-EC72-4B06-9EF6-6B27D55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549-3FC2-457D-9397-04E4E9CB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664-2FF5-4252-9912-7919EFE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92B-2221-4605-86D3-9A2057DD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CFA-84A2-4196-835D-CBA4F4EA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8D0-C456-4B95-A573-9277D9BD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FBF-78E9-46B3-8B9D-C12156E8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A87E-3346-41D6-A7B1-5A7593284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Ontology 2.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on of multiple is_a inheritance through instantiation of relationships to terms in outside ontologies, such as the GO cellular component, GO biological process, and the PATO phenotype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should be more ontologically correct, and more useful for data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is likely to be slow, due to lack of personnel and funding to organize th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is Workshop</a:t>
            </a:r>
            <a:br>
              <a:rPr sz="44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per A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gmatic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ontology in its current form to include additional immune cell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al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 the groundwork for CL 2.0 in the area of immune cell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for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tation (ongoing for 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roduct term formation with GO, MP, and other ontologies (ongo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of Flow Cytometry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 Mod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DB annotation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21337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Protei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2670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GO 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8954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5288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523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k to extern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1337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expresses_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located_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438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participates_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28954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95288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523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k via specific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o 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ion between ontology, knowledgebase, and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nformation is needed to describe a cell uniquely — to create a formal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al with species differ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5:42:36Z</dcterms:created>
  <dc:creator>Alexander Diehl</dc:creator>
  <dc:description/>
  <dc:language>en-US</dc:language>
  <cp:lastModifiedBy>Alexander Diehl</cp:lastModifiedBy>
  <dcterms:modified xsi:type="dcterms:W3CDTF">2008-05-13T01:12:48Z</dcterms:modified>
  <cp:revision>6</cp:revision>
  <dc:subject/>
  <dc:title>Cell Ontology 2.0 </dc:title>
</cp:coreProperties>
</file>